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F25-E7FA-460C-A364-C15E835A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FDF-A203-47BB-8EF9-F9BD10F6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5F2-F3CA-458A-9389-2EE2BBA1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822-0FBB-4BC7-8526-6C0809D8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0CC-C476-4331-903E-6C03B57A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76C2-0A17-4289-8A70-3031805D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94A-B0C9-4B83-8939-384F6BE8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DB2-DE19-411E-B61C-A694FBBF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C1A-2642-4EF0-8E45-AB0974BD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4A61-ACE9-4C2D-813B-D26422E6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62E-FC52-452A-94B8-EC433675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786-493F-4235-97E4-EFA67535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619C-9F56-4044-B5C6-E7E1F99CC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6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040040" y="2707200"/>
            <a:ext cx="707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ПРОЦЕНА СТУДИЈА ПОСВЕЋЕН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ПРОГНОСТИЧКИМ ФАКТОР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а ли је студија прогностичког фактора валидна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 ли је у студији праћена репрезентативна популација пацијената у довољно раној фази болести? – - најбоље  је почети праћење одмах по постављању дијагн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су пацијенти праћени довољно дуго и потпу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-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највиш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%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пацијената се мо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"“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изгуби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а да студија остане валид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су објективни критеријуми за исход примењени слеп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Ако су идентификоване подгрупе са различитом прогноз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је извршена корекција за важан прогностички факто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 ли је урађена валидација у независној групи пацијена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је прогностичка студија клинички значајн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Колико је чест одређени исход болести током време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лико је прогноза прециз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Прецизност се одређује на основу интервала повере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Да ли се ова валид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значајна прогностичка студија може применити код мог пацијент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пацијенти из студије слични мом пацијент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резултати студије значајно утичу на моје закључке о томе шта да понудим или кажем мом пацијент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5:31Z</dcterms:modified>
  <cp:revision>56</cp:revision>
  <dc:subject/>
  <dc:title>Slide 1</dc:title>
</cp:coreProperties>
</file>